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5.wmf" ContentType="image/x-wmf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5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E91-473F-4602-9A04-8A77E4D2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126-67E3-415A-B3CF-A4192AB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829F0-CCCB-4AE5-B4B5-B402707B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10D3C-528D-486C-9E53-8CF6B5F1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506E2-E804-4E87-AE37-CB33B01F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309B7-BA65-44AA-BF11-64FD510C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93CFE-F875-4465-9149-9425B718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CB46E-3C65-434C-9A4F-7C51C89E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7F0BD-2ECC-4B9B-B349-8F9597C4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282C5-EFE9-4E6A-987C-34DC58DE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E21F3-6104-4E33-9C09-E7A3370E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0A7BE-D9DB-4FE4-815B-475F580B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26D-D169-4306-9D05-38C31F3E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13080-DBDD-4232-AF18-FFE98E6D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EA82A-E8D7-4847-BFAE-F5B81400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0DFF4-2DA9-4A55-B22A-8C494F53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DCAD3-527B-4A49-A3FA-D22516A7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6809A-A617-48B0-BC08-A0C3A6FA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11E54-D6CB-4A0D-A33F-F04744ED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43D46-9C14-493C-B72E-FAD0C211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923E0-1566-4B29-A2E1-F81CF5F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E491D-F4C6-4035-8CCF-65ABAC22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8BF34-870A-4002-A0C8-5A910B35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B13-2F58-4595-A8E7-D5B4D16A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9B2E3-2129-404B-B05E-317E1486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585D8-0CB7-4D19-89F9-A7E2B6BF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4D614-906F-4709-8DC5-4647F13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C9B13-7310-4D2B-AD0E-992BC380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14AC0-1488-4E45-ACEB-E762471D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E69F9-1FBB-4686-93C8-5E36F8CD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784C2-3A31-48DA-88FE-C3B2B92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D6F01-D9E7-4393-84B2-DD4B811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61246-B97C-4469-9352-C871DC68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DD6C5-97A5-434B-A498-98D02E98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F4D8-8652-45F1-92A9-2DB59AC8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BCDA0-8CC1-417D-A826-5638324D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22B7-C1B7-42F9-8306-6C54F5A6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F1AF2-BDA5-477C-A04C-AFA06AC5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7F4D3-9F54-41E2-8648-1C30BF86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C996E-643B-4B63-B52A-E5532BA2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3361F-BDD6-4F35-8D06-C426D47F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31D7C-B10B-4495-A9E0-91F68EE8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750A6-E0FC-4DE5-A118-4D6DA96A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2CFB3-96BE-4591-9978-D1CC85FF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3424B-8988-4C0B-8F13-A4EEDF7B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63A3-2DA7-4775-8514-6FA8EBD3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5B9D0-2C63-4795-9C3B-B574D129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6CE34-C45D-498D-A917-CD2CA4C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BE49B-428C-4086-9780-15869ED1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8683F-8230-48B8-8578-DEDC83A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70CC8-3986-4445-8B7D-E34BB1DA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DFCB1-9331-4959-B6FF-45EBBFFC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6C927-D99E-43A4-BECE-990C18AE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4CD2E-CCAF-4DCB-9834-F3633A05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A3377-D631-4CA6-B79A-6F60E1A2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515D8-A291-43B6-9A52-6DC3853B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23B8-8C8E-4860-8A9F-3A6ACA52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A3941-1698-4AEE-86AC-97878FC6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3FA7B-1CE0-4A35-A4FC-8750B4F6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EE7AB-B9ED-43DC-96EF-3A73470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87829-2EB3-4210-BE75-6A45886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0C956-5C87-48F6-B431-7B376A04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44EA6-D905-4209-9C16-21D8DE50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C6DA1-0F5E-4D10-9E68-482BE87E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51D1F-664B-44F3-96E2-4AC92A69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C71EE-BD47-48F3-8470-9C11F9AB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F4914-3211-4A68-B089-F08A2716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75E5-1FDD-44DB-9830-F4A561BF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AA032-1F30-4CE0-9782-6EA2558D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6762E-167E-4ED2-869F-9B05D625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11B75-4BE2-4CA1-A446-81CD16E8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8A45A-874E-4F83-B5A8-B77CC568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1436E-0811-41AB-98D9-BD5625BF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5C17D-2986-4846-83D5-2E30AF4A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155F3-D9C7-4F6A-A9AF-75330667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FDF08-455E-47C5-B1DC-8A30C8D9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E25C3-C5BC-43DD-8999-EDB8A83A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38B5-0CDA-4740-9ECC-82C011C3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DC90-24D9-40E3-B0BF-123B23B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65F6-520B-49A2-B5B0-3207FB7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E16-B17C-4040-B19E-D724FC6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B86D-C67F-400C-88C7-11F0DC4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E453-AE5F-4D87-9E48-B3F00AB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870F-B0F1-48CC-8E96-BAF31AD2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DEF4-3D3A-4B2C-A53F-789B68F3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E99C-3EB7-48F3-98E5-7DAD9A87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704B-FDB3-4923-94B0-43C004BA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33CF-2F78-4C6D-854C-883FC8F1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8F6D-1097-4776-8CB2-DF573853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AB50-087A-4F2A-88A4-60035492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BD6F-634B-41C5-AE46-A25BEB93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9DB-C7E1-47C2-B2A0-67F4493D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95FC-91BE-41EA-88BE-235A076C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9CA3-B6DA-4366-9BC2-860E03AD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133E-3FDA-4D3D-8F22-BC141936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37AF-46B4-4E74-9982-6225198F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3905-1F17-4A66-B951-E98DE538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05E6-438A-4588-AD44-CF5F1805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1B1B-9369-4181-9ED3-7ED2B6EC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AEA4-ADA8-4460-927A-3DFA1B6A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33C11-9B11-4C97-8C86-D494EF6D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72EB-4516-44FC-863B-CD08B10E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0AB-944B-47C4-82D2-359D1BCD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FC741-1322-4CAF-9791-64451FAB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0B6D-77F8-4A80-80DD-98C2ADD4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9AB31-1668-4A10-BBB3-DDBE5DB5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B420-7478-4AD0-AEAA-0E176148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BA7E-6332-4EBD-A0B2-02F722CF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6324-890B-447C-AC73-4292EA3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6638-2C22-4180-BF83-EF93B679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C1F3-4889-46DF-8321-2D55B88E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8CCEF-554A-49BC-99B4-E20F61EB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4DBA4-63AD-4833-A4DE-CEC3D36F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6E4-E9C6-47D1-A95E-F5CEC456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BB6B7-1ECD-4A78-B721-D07A8C6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83275-857C-4C36-8711-883827C6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31D04-CAA8-4F6B-A80A-5F2FAA3E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00AC9-61E5-4F37-9BE0-AA360F52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37415-1E8D-4623-BC92-A3D95D56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8BBA-9BEC-47A1-B0E7-E51B0A03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6E07B-E9A7-40B4-9AE2-E3DF54E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E4646-03CE-41DE-B3BD-D57151DB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A06D0-7CA0-4449-88BE-80B96EF2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8044-C603-4B73-B2EE-D59C44A4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9C8-BC64-49B5-9C16-20FFD2DC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6A0AB-B231-46D7-B826-8B9B34A5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8890-6747-452D-9D13-5FC04A6F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850B0-AE71-4D56-B6D6-44D323B3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6E18E-EAED-4A2E-B39C-86837A03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6466A-4588-4781-82C8-5D0F2BB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38503-04C8-4804-B8BC-138C4747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B99D-EB6E-4815-A95A-CA00713A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F758B-837B-4D06-AB52-88AA3679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1EF66-B121-4215-ABCF-FD017C35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9FA99-01E2-4866-A92E-9E2A793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54C-4121-4643-B6A6-EDC3C862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78C8-C4E3-4EA1-8F82-27FF0D51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89B06-8D31-45AD-B7D5-22672F31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3E101-7449-4112-9BEC-CBD15EAC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F345D-9AD8-49EB-B0E0-3E99C58E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6E298-4C8E-47C3-B9D2-797A0DC2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0C0C4-38EE-48F4-8ABE-A97D724B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0C1DF-5139-49BD-943C-FDCDF2D4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D385B-21F5-4360-AF54-F1334B0E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1F797-AD46-4891-96AD-A50F1047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BB860-1E00-4E2D-A948-1F5EFA47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4F5-8441-4D6F-9DFC-75587C44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36C5-8604-4549-8446-179E6190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58FD-6AB3-4569-847D-48FEA42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D6305-E9AF-472F-A2E8-ADBAFA72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0846-E3BA-4D1B-A53A-50D639ED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79E6-1B8B-4827-BCA7-849DE0F0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37D68-4497-4E9C-9F12-E336A956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F2B00-748F-4483-A567-C0966F3E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471C8-0EAB-4EC6-815E-545C0A32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557A-C021-4268-B80D-468232AA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3CC57-39ED-4E17-98A5-889C2399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03D-1D05-446C-AA92-F6265A6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EA99B-AEFD-4EF8-B61E-C9E79CF6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FCDCD-2DB5-4555-9778-A2685113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9CB0E-8446-4B6F-879E-47DB07DB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90043-0064-4851-A405-A50810EC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8BD3A-D3EC-40AB-B00A-7DF8D467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418DF-5F0B-4103-A6DC-9335378C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003C5-B94A-4287-A44A-DA71BC6B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7021E-407B-4F47-A78D-0291C9A3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71CD7-726E-4948-A2EB-F0D85F94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A9FB5-6CB5-4BE4-8E63-699DF4C9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0392-0445-4BCA-8B43-3CE09387E4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4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C400-E3CF-4B99-9727-A5CF3D68C2F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2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A02A-D63B-4C93-954B-1C869BE9E01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0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847E-939D-48C3-A6ED-CAC84FA172C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ED4A-8FD6-4EDF-8ABC-0E28D8A2BE2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C2F1-C316-4A4C-AAAE-DF77ADA17B6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499A-A378-4620-B350-F2451B8E4C7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3BA3-D31F-47DC-B523-C3E50DA3AF7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4DC8-2919-4769-9CD0-FF3FBC3D58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0650-961B-47C2-AED9-D2DED0A39C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2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68C4-8317-4E9B-9490-DE43422EB2A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6D33-05C9-4A64-A24A-DAC829681A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98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3B24-2DC0-4CA4-9258-2C205D7D86A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1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54AD-26EF-4CFD-ACDA-43C1768E0A2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2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6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gled u unutrašnjost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0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mo modelom mogli objasniti ono što se dogodilo pri miješanju vode i alkoho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iža i gr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lumen riže: 50 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lumen graha: 50 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ujam mješavine: V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te objasnili rezultat pokus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3" descr="DSC00562.JPG"/>
          <p:cNvPicPr/>
          <p:nvPr/>
        </p:nvPicPr>
        <p:blipFill>
          <a:blip r:embed="rId7"/>
          <a:srcRect l="12840" t="4557" r="12840" b="0"/>
          <a:stretch/>
        </p:blipFill>
        <p:spPr>
          <a:xfrm>
            <a:off x="5334120" y="2349360"/>
            <a:ext cx="3779640" cy="2735280"/>
          </a:xfrm>
          <a:prstGeom prst="rect">
            <a:avLst/>
          </a:prstGeom>
          <a:ln w="0">
            <a:noFill/>
          </a:ln>
        </p:spPr>
      </p:pic>
      <p:pic>
        <p:nvPicPr>
          <p:cNvPr id="622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95280" y="90792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mo li ono što smo otkrili pri miješanju riže i graha, upotrijebiti kako bismo objasnili volumen smjese alkohola i vo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o što su zrna riže ušla među zrna graha i popunila prazne međuprostore, tako su se i čestice alkohola pomiješale su se s česticama vode i bolje popunile pros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 znači da između čestica vode postoje prazn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eđuprostor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u koje uđu čestice alkoho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625" name="Slika 1" descr=""/>
          <p:cNvPicPr/>
          <p:nvPr/>
        </p:nvPicPr>
        <p:blipFill>
          <a:blip r:embed="rId7"/>
          <a:stretch/>
        </p:blipFill>
        <p:spPr>
          <a:xfrm>
            <a:off x="254160" y="5670720"/>
            <a:ext cx="863568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6120" y="10238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ma li kraja dijeljenju tvari na sve manje čes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rlja od maslinovog u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se kap nije proširila cijelom površinom vo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to možete objasniti predodžbom da se    tvar sastoji od čest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628" name="Slika 3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629" name="Slika 1" descr=""/>
          <p:cNvPicPr/>
          <p:nvPr/>
        </p:nvPicPr>
        <p:blipFill>
          <a:blip r:embed="rId8"/>
          <a:stretch/>
        </p:blipFill>
        <p:spPr>
          <a:xfrm>
            <a:off x="5908680" y="1557360"/>
            <a:ext cx="2628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24000" y="98064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vari su građene od vrl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tnih čestic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koje se gibaju i među kojima su prazn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eđuprostor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akvo shvaćanje naziva s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estično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l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rpuskularno – kinetičkom teorijo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građe tv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estice od kojih su građene tvari, a koje još imaju svojstva te tvari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olekulam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Molekule su sastavljene od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tom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Isolated hydrogen atoms on a graphene membrane"/>
          <p:cNvPicPr/>
          <p:nvPr/>
        </p:nvPicPr>
        <p:blipFill>
          <a:blip r:embed="rId1"/>
          <a:stretch/>
        </p:blipFill>
        <p:spPr>
          <a:xfrm>
            <a:off x="2916360" y="404640"/>
            <a:ext cx="2286000" cy="5753160"/>
          </a:xfrm>
          <a:prstGeom prst="rect">
            <a:avLst/>
          </a:prstGeom>
          <a:ln w="0">
            <a:noFill/>
          </a:ln>
        </p:spPr>
      </p:pic>
      <p:pic>
        <p:nvPicPr>
          <p:cNvPr id="633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Građa tv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6" name="Slika 3" descr="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vari su građene od atoma i  njihovih nakupina,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olekul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jmanji dio kemijskog elementa koji može postojati jest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to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lekule se sastoje od dva ili više at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lekule ne možemo vidjeti golim okom, međutim, pokusima možemo stvorit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dodžb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o rasporedu atoma i molekula u čvrstom, tekućem i plinovitom stan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ako su molekule vode u ledu čvršće povezane nego kad je voda u tekućem stanju. U stanju vodene pare molekule su još slabije povezane, te su slobod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179280" y="907560"/>
            <a:ext cx="5184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U čvrstom stanj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atomi su pravilno raspoređeni u nizovima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atomi su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čvrsto međusobno povezani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atomi ne mogu izmjenjivati mjesta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atomi titraju nasumce oko nekoga ravnotežnog položa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497400" cy="2495520"/>
          </a:xfrm>
          <a:prstGeom prst="rect">
            <a:avLst/>
          </a:prstGeom>
          <a:ln w="0">
            <a:noFill/>
          </a:ln>
        </p:spPr>
      </p:pic>
      <p:pic>
        <p:nvPicPr>
          <p:cNvPr id="643" name="Slika 3" descr=""/>
          <p:cNvPicPr/>
          <p:nvPr/>
        </p:nvPicPr>
        <p:blipFill>
          <a:blip r:embed="rId2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"/>
          <p:cNvPicPr/>
          <p:nvPr/>
        </p:nvPicPr>
        <p:blipFill>
          <a:blip r:embed="rId1"/>
          <a:stretch/>
        </p:blipFill>
        <p:spPr>
          <a:xfrm>
            <a:off x="5148360" y="2735280"/>
            <a:ext cx="3713040" cy="27097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282600" y="836640"/>
            <a:ext cx="4433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U tekućem stanj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lekule su na okupu, ali su nepravilno raspoređe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lekule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nisu čvrsto povezane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, kao u čvrstom tijel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lekule mogu međusobno izmjenjivati mjes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lekule titraju oko ravnotežnog položa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Slika 3" descr=""/>
          <p:cNvPicPr/>
          <p:nvPr/>
        </p:nvPicPr>
        <p:blipFill>
          <a:blip r:embed="rId2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611280" y="1125000"/>
            <a:ext cx="792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gledajte tijela oko sebe, kako su ona građe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te li vidjeti najsitnije djeliće tvari od kojih su načinjena tijela oko v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to prouč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250560" y="836640"/>
            <a:ext cx="439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U plinovitom stanj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lekule su u posve nepravilnom rasporedu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lekule su međusobno vrlo udalje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lekule se gibaju u svim smjerovima, međusobno se sudarajuć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1"/>
          <a:stretch/>
        </p:blipFill>
        <p:spPr>
          <a:xfrm>
            <a:off x="5364000" y="2492280"/>
            <a:ext cx="3197520" cy="2448000"/>
          </a:xfrm>
          <a:prstGeom prst="rect">
            <a:avLst/>
          </a:prstGeom>
          <a:ln w="0">
            <a:noFill/>
          </a:ln>
        </p:spPr>
      </p:pic>
      <p:pic>
        <p:nvPicPr>
          <p:cNvPr id="649" name="Slika 3" descr=""/>
          <p:cNvPicPr/>
          <p:nvPr/>
        </p:nvPicPr>
        <p:blipFill>
          <a:blip r:embed="rId2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79280" y="347400"/>
            <a:ext cx="82296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1. S pomoću ravnala odredite volumen četiriju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ckica šećera. Zatim ih ubacite u menzuru s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vodom i pričekajte da se šećer otopi. Za koliko s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ema vašim očekivanjima, morala podignuti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voda u menzuri kada sa šećer otop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2. Za koliko se doista podignul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3. Objasnite odakle razlika s obzirom na očekivan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volu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652" name="Slika 1" descr=""/>
          <p:cNvPicPr/>
          <p:nvPr/>
        </p:nvPicPr>
        <p:blipFill>
          <a:blip r:embed="rId5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znanosti postoje pojave koje su našim osjetilima nedostupne. Kako proučavati takve poj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fizici se nepristupačne pojave proučavaju prek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fizikalnih model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na od metoda koje se koriste za razvoj modela je istraživanje pomoću “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crne kutij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125000"/>
            <a:ext cx="533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u građene tvar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Staroj Grčkoj na ovo su pitanje pokušavali odgovoriti mnogi, ali tijekom vremena, dva su se stajališta u filozofskim raspravama sukobljaval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su li tijela neprekinuta ili se sastoje od malenih djelića – čestic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3" descr="Demokrit i Aristotel.jpg"/>
          <p:cNvPicPr/>
          <p:nvPr/>
        </p:nvPicPr>
        <p:blipFill>
          <a:blip r:embed="rId4"/>
          <a:stretch/>
        </p:blipFill>
        <p:spPr>
          <a:xfrm>
            <a:off x="6599160" y="719280"/>
            <a:ext cx="2117880" cy="5589360"/>
          </a:xfrm>
          <a:prstGeom prst="rect">
            <a:avLst/>
          </a:prstGeom>
          <a:ln w="0">
            <a:noFill/>
          </a:ln>
        </p:spPr>
      </p:pic>
      <p:pic>
        <p:nvPicPr>
          <p:cNvPr id="607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emokrit i njegovi sljedbenici tvrdili su da su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tvari građene od čestic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među kojima su prazni prostori. Kombiniranjem čestica nastaju različite tvari i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tonovi, a poslije i Aristotelovi sljedbenici, smatrali su kako su tvari neprekinute. Ne postoje čestice tvari, već predmeti nastaju preoblikovanjem tvari, tzv. aktualizacijom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i je od filozofa bio u prav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šajte razmisliti i opisati neka od svojih svakodnevnih iskustava, koja biste mogli upotrijebiti kao dokaz o građi tv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92040" y="1341360"/>
            <a:ext cx="40989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bojena otop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Što se s obojenom vodom događalo u pokus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ko to objašnjavat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3" descr="SnapShot(0).jpg"/>
          <p:cNvPicPr/>
          <p:nvPr/>
        </p:nvPicPr>
        <p:blipFill>
          <a:blip r:embed="rId6"/>
          <a:srcRect l="20210" t="14465" r="30709" b="0"/>
          <a:stretch/>
        </p:blipFill>
        <p:spPr>
          <a:xfrm>
            <a:off x="4491000" y="1700280"/>
            <a:ext cx="4334040" cy="4249800"/>
          </a:xfrm>
          <a:prstGeom prst="rect">
            <a:avLst/>
          </a:prstGeom>
          <a:ln w="0">
            <a:noFill/>
          </a:ln>
        </p:spPr>
      </p:pic>
      <p:pic>
        <p:nvPicPr>
          <p:cNvPr id="614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56840" y="1479600"/>
            <a:ext cx="4546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mjesa alkohola i v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(voda) = 20 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(alkohol) = 20 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i će biti volumen nastale smjese ako ulijete vodu u alkoh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6"/>
          <a:stretch/>
        </p:blipFill>
        <p:spPr>
          <a:xfrm>
            <a:off x="5321160" y="2060640"/>
            <a:ext cx="3365640" cy="2471760"/>
          </a:xfrm>
          <a:prstGeom prst="rect">
            <a:avLst/>
          </a:prstGeom>
          <a:ln w="0">
            <a:noFill/>
          </a:ln>
        </p:spPr>
      </p:pic>
      <p:pic>
        <p:nvPicPr>
          <p:cNvPr id="617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539640" y="1305000"/>
            <a:ext cx="8291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reni volumen smje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 =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nismo dobili volumen jednak zbroju volumena alkohola i vo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pri miješanju dogodilo s alkoholom? Nacrtajte u bilježnic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7:07:06Z</dcterms:created>
  <dc:creator>Mladen Vidović</dc:creator>
  <dc:description/>
  <dc:language>en-US</dc:language>
  <cp:lastModifiedBy>MArina Dumančić</cp:lastModifiedBy>
  <dcterms:modified xsi:type="dcterms:W3CDTF">2019-09-13T20:27:38Z</dcterms:modified>
  <cp:revision>259</cp:revision>
  <dc:subject/>
  <dc:title>Građa tvari</dc:title>
</cp:coreProperties>
</file>